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Периферийные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и название специаль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итут Информатики, Инноваций и Бизнес-систем, Кафедра 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ипоренко С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Жидкокристаллические дисплеи (LCD). Их появление связано с борьбой за снижение габаритов и веса переносных компьют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новной из недостаток - невозможность быстрого изменения картинок или быстрого движения курсора мыши и т.п. Такие экраны нуждаются в дополнительной подсветке или во внешнем освещении. Преимущества данных экранов - в значительном сокращении спектра вредных воз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D2CB-C25E-491E-B718-525829AB39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02" descr=""/>
          <p:cNvPicPr/>
          <p:nvPr/>
        </p:nvPicPr>
        <p:blipFill>
          <a:blip r:embed="rId1"/>
          <a:stretch/>
        </p:blipFill>
        <p:spPr>
          <a:xfrm>
            <a:off x="3203640" y="1521000"/>
            <a:ext cx="1695240" cy="1542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46600" y="2755080"/>
            <a:ext cx="38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Жидкокристаллический дисп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 представляет собой матрицу газонаполненных ячеек, заключенных между двумя параллельными стеклянными поверхностями. В качестве газовой среды обычно используется неон или ксенон. Разряд в газе протекает между прозрачным электродом лицевой стороне экрана и адресными электродами, проходящими по его задней стороне. Газовый разряд вызывает ультрафиолетовое излучение, которое, в свою очередь, инициирует видимое свечение люминофора. В цветных плазменных панелях каждый пиксель экрана состоит из трех ячеек с красным, зеленым и синим люминоф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5E3F-C7AC-466D-AB24-F6D22ECEBA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izo_685ex_bs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11145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05160" y="329652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зменная пан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чные (игольчатые) принтеры - это самые дешевые аппараты, обеспечивающие удовлетворительное качество печати для широкого круга рутинных операций (главным образом для подготовки текстовых документов). Применяются в сберкассах, в промышленных условиях, где необходима  рулонная печать, печать на книжках и плотных карточках и других носителях из плотного материала. Достоинства: приемлемое качество печати при условии хорошей красящей ленты, возможности печати "под копирку". Недостатки: достаточно низкая скорость печати, особенно графических изображений, значительный уровень шума. Среди матичных принтеров есть и достаточно быстрые устройства (так называемые, Shattle-принте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йные принтеры обеспечивают более высокое качество печати. Они особенно удобны для вывода цветных графических изображений. Применение чернил разного цвета дает сравнительно недорогое изображение приемлемого качества. Цветную модель называют СМY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en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Yellow-Black) по названиям основных цветов, образующих палит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DFC-8BF6-432C-9278-8D293A732B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C9F8-C90B-46B6-A57F-E7A54C4122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ерные принте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меют еще более высокое качество печати, приближенное к фотографическому. Они стоят намного дороже, однако скорость печати в 4-5 раз выше, чем у матричных и струйных принтеров. Недостатком лазерных принтеров являются довольно жесткие требования к качеству бумаги - она должна быть достаточно плотной и не должна быть рыхлой, недопустима печать на бумаге  с пластиковым покрытием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рмические принтеры. Используются для получения цветного изображения фотографического качества. Требуют особой бумаги. Такие принтеры пригодны для деловой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т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578F-5307-4393-9AB0-2037F3700C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ами ввода  являются те устройства, посредством  которых можно ввести информацию  в  компьютер.  Главное  их предназначение - реализовывать воздействие на ПК.  Разнообразие выпускаемых устройств ввода породили целые технологии: от осязаемых до голос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 устройством   ввода  большинства  компьютерных систем является  клавиату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 различаются по двум признакам: способ подключения и дизайн. Подключение клавиатуры к компьютеру может осуществляться через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, USB и через ИК (инфракрасный) порт для беспроводных моделей. В последнем способе подключения клавиатура требует дополнительного источника питания, например батарей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A8E4-9067-47B2-9E80-B6C3DC7920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2" descr=""/>
          <p:cNvPicPr/>
          <p:nvPr/>
        </p:nvPicPr>
        <p:blipFill>
          <a:blip r:embed="rId1"/>
          <a:stretch/>
        </p:blipFill>
        <p:spPr>
          <a:xfrm>
            <a:off x="3456000" y="2637000"/>
            <a:ext cx="1257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чные сканеры - самые простые и дешевые. Основной недостаток в том, что человек сам перемещает сканер по объекту, и качество полученного изображения зависит от умения и твердости руки. Другой важный недостаток - небольшая ширина полосы сканирования (до 10 см), что затрудняет чтение широких ориги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37E2-9338-4E76-A521-D2ADD53DDF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учной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175" name="Лазерный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600" y="2528280"/>
            <a:ext cx="70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етодиодный ручной сканер)    (лазерный ручной скан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233360"/>
            <a:ext cx="8496000" cy="507528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абанные сканеры  применяются в профессиональной типографической деятельности. Принцип заключается в том, что оригинал на барабане освещается источником света, а фотосенсоры переводят отраженное излучение в цифров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ые сканеры. Их основное отличие от двух предыдущих в том, что при сканировании неподвижно закреплена линейка с CCD - элементами, а лист со сканируемым изображением движется относительно нее с помощью специальных вал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шетные сканеры. Это самый распространенный сейчас вид для профессиональных работ. Сканируемый объект помещается на стеклянный лист, изображение построчно с равномерной скоростью считывается головкой чтения с CCD - сенсорами, расположенной снизу. Планшетный сканер может быть оборудован специальным устройством слайд-приставкой для сканирования диапозитивов и негати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онные сканеры. Относительно новое направление. Цветной проекционный сканер является мощным многофункциональным средством для ввода в компьютер любых цветных изображений, включая трехмерные. Он вполне может заменить фотоаппа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spcBef>
                <a:spcPts val="224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CBA-07F1-4C84-8779-81DF3D6E2D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04080" y="321516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имер списка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5175-D2C7-4ED8-9DD1-47AF1E6120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к М.Ю. Аппаратные средст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2006. – 107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тыка Т.Л., Попов И.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ферийные устройства вычислительной тех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М.: Изд-во «Питер", 2007. – 43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A834-98D1-466F-9E95-0748205409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й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6B87-48D5-4054-B312-0F98051856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 и группы периферийных устройст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начение периферийных устр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32B-109B-4929-B757-68F7C8A573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назначение ПУ - обеспечить поступление в ПК из окружающей среды программ и данных для обработки, а также выдачу результатов работы ПК в виде, пригодном для восприятия человека или для передачи на другую ЭВМ, или в иной, необходимой форме. ПУ в немалой степени определяют возможности применения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89000"/>
            <a:ext cx="84963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периферий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B2B9-A4BE-4E8D-868A-0413FA95E0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28640"/>
            <a:ext cx="8569440" cy="59403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иферийные устройства можно разделить на несколько групп по функциональному назначени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-вывода – предназначены для ввода информации в ПК, вывода в необходимом для оператора формате или обмена информацией с другими ПК. К такому типу ПУ можно отнести внешние накопители (ленточные, магнитооптические), мод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ы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предназначены для  вывода информации в необходимом для оператора формате. К этому типу периферийных устройств относятся: принтер, монитор (дисплей), ауди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а ввод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Устройствами ввода  являются устройства, посредством  которых можно ввести информацию  в  компьютер.  Главное  их предназначение - реализовывать воздействие на машину. К такому виду периферийных устройств относятся: клавиатура (входит в базовую конфигурацию ПК), сканер, графический планше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точные (магнитные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накоп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имеры. Благодаря достаточно большому объему и довольно высокой надежности чаще всего используются в рамках устройств резервного копирования данных на предприятиях и в крупных компаниях (хранят резервные копии баз данных и другой важной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записи на магнитных носителях основан на изменении намагниченности отдельных участков магнитного слоя носителя. Запись осуществляется при помощи магнитной головки, которая создает магнитное поле. При считывании информации намагниченные участки создают в магнитной головке слабые токи, которые превращаются в двоичный код, соответствующий запис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88AD-79AE-4CE6-9C99-151CA18C9D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419640" y="1665360"/>
          <a:ext cx="12477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65360"/>
                    <a:ext cx="1247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е накоп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EEFA-C571-4DDD-9A3C-FA99C6FEB9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449360"/>
            <a:ext cx="84960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ооптические накопители – прив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. Также могут использоваться в качестве устройств резервного копирования, но, в отличие от стримеров, обладают гораздо меньшей вместимостью данны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VD-RW до 4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исках, которые позволяют многократную перезапись, применяется магнитооптический принцип, в основу которого положено физическое свойство: коэффициент отражения лазерного луча от по-разному намагниченных участков диска с особым образом нанесенным магнитным покрытием разли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1257480" cy="885960"/>
          </a:xfrm>
          <a:prstGeom prst="rect">
            <a:avLst/>
          </a:prstGeom>
          <a:ln w="0">
            <a:noFill/>
          </a:ln>
        </p:spPr>
      </p:pic>
      <p:pic>
        <p:nvPicPr>
          <p:cNvPr id="77" name="i4" descr=""/>
          <p:cNvPicPr/>
          <p:nvPr/>
        </p:nvPicPr>
        <p:blipFill>
          <a:blip r:embed="rId2"/>
          <a:stretch/>
        </p:blipFill>
        <p:spPr>
          <a:xfrm>
            <a:off x="4319640" y="1592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2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8160" y="31550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200" y="272016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од лазерных дисков и сам носител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разновидности памяти пользователи предъявляют несколько скромных треб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независимость – т.е. не нуждаться в батарейках, неожиданная разрядка которых приведет к потер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ежность – не потерять данные под воздействием грозы, падении или при попадании в луж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ктной – чтобы не размышлять, а стоит ли тащить все это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й – чтобы не бегать в магазин каждый месяц за новой, т.к. старая отслужила сво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ой – совместимой со множеством устройств, в которых могут потребоваться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эш-карт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B35-09AF-4423-BE66-C79BCFF18E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spimage2" descr=""/>
          <p:cNvPicPr/>
          <p:nvPr/>
        </p:nvPicPr>
        <p:blipFill>
          <a:blip r:embed="rId1"/>
          <a:stretch/>
        </p:blipFill>
        <p:spPr>
          <a:xfrm>
            <a:off x="4680000" y="159228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ispimage" descr=""/>
          <p:cNvPicPr/>
          <p:nvPr/>
        </p:nvPicPr>
        <p:blipFill>
          <a:blip r:embed="rId2"/>
          <a:stretch/>
        </p:blipFill>
        <p:spPr>
          <a:xfrm>
            <a:off x="3095640" y="1665360"/>
            <a:ext cx="1133640" cy="94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2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4080" y="279180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Флэш-карты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существуют два вида модемов: аналоговые и цифровые (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е модемы более популярны из-за своей дешевизны и используются в основном для выхода в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только иногда (из-за невысокой (до 56 Кбит/с) скорости передачи данных) для связи с другими ПК. Цифровые же модемы довольно дорогие и используются для высокоскоростных соединений с се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ибо для организации локальной сети на больших расстояния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мы позволяют передавать и принимать информацию со скоростью до 5Мбит/с на расстоянии 5-7 к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вода-вывод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814F-AEDF-4826-9C80-92A29B822C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2" descr=""/>
          <p:cNvPicPr/>
          <p:nvPr/>
        </p:nvPicPr>
        <p:blipFill>
          <a:blip r:embed="rId1"/>
          <a:stretch/>
        </p:blipFill>
        <p:spPr>
          <a:xfrm>
            <a:off x="2519280" y="2168640"/>
            <a:ext cx="10670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i4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257120" cy="809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35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26200" y="313884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01360" y="3080520"/>
            <a:ext cx="55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Аналоговый  модем)    (Цифрово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д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13000"/>
            <a:ext cx="8496000" cy="49323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Т монитор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электронно-лучевой 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ая трубка (кинескоп) — электровакуумный прибор, преобразующий электрические сигналы в св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о-лучевые приборы — класс электровакуумных электронных приборов, предназначенных для преобразований информации, представленной в форме электрических или световых сигналов. В приборах используются сфокусированные потоки электронов, управляемые по интенсивности и положению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ферийные устройства вывода информ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5B2D-962D-4115-A432-3DD092EAEA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2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2" descr=""/>
          <p:cNvPicPr/>
          <p:nvPr/>
        </p:nvPicPr>
        <p:blipFill>
          <a:blip r:embed="rId1"/>
          <a:stretch/>
        </p:blipFill>
        <p:spPr>
          <a:xfrm>
            <a:off x="3635280" y="1592280"/>
            <a:ext cx="1190880" cy="96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409200" y="25758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ЛТ-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s</cp:lastModifiedBy>
  <dcterms:modified xsi:type="dcterms:W3CDTF">2009-01-26T00:30:28Z</dcterms:modified>
  <cp:revision>92</cp:revision>
  <dc:subject/>
  <dc:title>Lecture Template </dc:title>
</cp:coreProperties>
</file>